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BCD3-32E5-4A5E-98B1-FA7DE67E4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8F40-F556-4774-AF4C-1D3374155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97CACD9-DF58-4A5A-B8EB-B05957F98635}"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EE11F9-7AB7-460D-A59F-593B0F57E9D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ED1D5B-46A1-403F-B3A4-139263F1885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D425BC-9FEC-48DF-AF8F-B70D3305F9C0}" type="datetime">
              <a:rPr b="0" lang="en-US" sz="1200" spc="-1" strike="noStrike">
                <a:solidFill>
                  <a:srgbClr val="000000"/>
                </a:solidFill>
                <a:latin typeface="Times New Roman"/>
                <a:ea typeface="Arial"/>
              </a:rPr>
              <a:t>07/31/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534320-8266-40E7-B0D7-5B01C03D84A4}" type="datetime3">
              <a:rPr b="0" lang="en-US" sz="1200" spc="-1" strike="noStrike">
                <a:solidFill>
                  <a:srgbClr val="000000"/>
                </a:solidFill>
                <a:latin typeface="Times New Roman"/>
                <a:ea typeface="Arial"/>
              </a:rPr>
              <a:t>July 31,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909077-BC66-495C-862D-21ADE0BEEE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41AE9-2C6A-4C0C-BD58-5B654749C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30C6A-4794-42BD-80AB-51610091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CCAAA-EF6B-4DBF-BD29-CB2BACFD8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49FDD-014A-48AC-A2E8-4AB5568D9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DE892-F6D2-4089-B007-59D58AF9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8DC4D-8FA0-4EAB-A989-63B343BF7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85611-5C48-47A7-924E-583871C50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C3077-A5A1-448B-B87E-6D2E4FF87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11A8-5995-4C26-9F34-744B69EF3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A8E93-C156-415A-8AF5-FE789B5E0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455A-D62C-4179-A433-7276562CC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3A550-0DD0-4BF0-8154-6FE24E499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E1D64-0A8A-4B27-82C5-5AC0C66ED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B8361-2095-4DF4-90E3-16D75F1CD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D9CB7-B202-4D07-AB58-D09924FF5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B3AC6-A1EC-41C3-90C0-10099A8BB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0DA94-F368-44CF-A9C5-EC333F633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B2FFF-86DC-4611-908A-D8F1D4B60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C1A5-FA23-45C0-B900-A70E8264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48319-555D-42D1-B64F-36BACA0F5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B55D-9D82-4003-9C06-907D45AC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CE144-B6DE-4234-95A2-7FBCCA492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5C17-9393-4FAB-82CD-A0E35933E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54A1-6CA1-4DD2-9254-498B1C83B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77EE-551E-4CA3-9C25-F8EA90E50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26C805-7260-4F28-B7E6-ACAABF625F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D8F039-CC2F-4841-B0BC-A85ED734075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EAA8B3-D97E-4C33-A4A3-7A3D2FF673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47C5-2DAB-441F-8EA6-FFF06B55053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BE88508-B282-4A1F-81E0-14742190E9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BCFB22-6861-45DB-82B7-4A403B85A53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3BA508-1E73-46D7-8894-154E49282E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